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3775-44AC-4C3D-BEE0-32A991D6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4DF-28B3-49E1-8EFF-143533F2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F5B93-5153-47ED-8E02-7CF1BEB0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6460D-B465-440D-9A23-C9A5E589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0E98D-1F09-47FF-B472-EC3EC827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FBF4A-4747-4CF7-BAA9-A51543AC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171C2-DD44-48A1-BC8E-40FD4560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CCB5C-349F-4AF2-80B7-7F965AB3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26CB5-7C8C-4988-A382-D541D417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C0962-DC76-4AED-9741-577A4BEC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0549F-E348-4CF2-A7C2-0CEC56D0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9442E-B860-42D4-B047-57858AA2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8917-4BC6-46C7-B409-7046BB7C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47417-74F1-469A-B7F2-348803F5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D83B5-B6EE-4361-A179-2AB7A460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3AC43-E91A-4972-AFAC-A94DA050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8DC89-C769-4EDF-9F5C-74BB8E5F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83CCD-F738-4F17-BFFF-3F8E5120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5AA31-BFB1-4F7C-A79B-BD479D77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4E5B6-4884-475A-8D53-6391C45B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2FE4A-BF8C-45EF-90D1-1F5EF9C5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9DE0C-1865-4813-906C-5B76160D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33BA6-ADA3-463D-87F4-EFB3AB93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D64-1E3B-44C6-AC11-860EBF48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CC505-0B89-4239-9BD2-807D3281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66629-8331-497E-B11B-14A375A0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C11AF-4B1A-4403-9DE1-96E9F3B7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0EE18-A33F-46F9-B896-E0050F73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F4D22-2430-403F-9DCA-10CB8656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21B4C-4104-4D91-A9AA-CD39DC2C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5D2C6-2B8C-4882-ABFC-DA83E832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45B90-D546-4305-B3CE-B8CD9FF8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6E341-00C6-481E-A147-496751DD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D5F34-F562-4B3A-AE3B-A14BBB55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8E8A-D10E-4D8C-8AFC-9F8FA6A2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C293D-74E9-4355-9EE0-0267D5D4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1BC2F-499A-491C-8286-6E3A1624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97BC8-3977-4DDA-9871-319D5D4E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C5D36-698E-462D-9CC3-B1F82D80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15CE3-FB9E-46BF-86F0-8C311A14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0F7C9-025A-4AE6-9DE7-DD195EC3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F0376-F66B-415E-BE67-261CEEA1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4A82B-C115-4C53-BE88-F815E172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D5C96-222E-4648-9FC6-53245A0E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C2C13-A2CA-44B9-9C3B-5B466BE0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ADCC-628F-4E01-9C71-17820B2F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4DF9F-3621-4A6C-BD5C-85B8B3E0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1E336-129C-40C1-963D-740B2B96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023C9-3542-4395-BB75-3843DC6D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C9FEB-A68A-4DEE-8757-76F6C35D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E22CE-1EAC-4699-AAB6-939E1A78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F7B67-6A1C-4AEE-B8E3-E044DE5B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93F6F-5FAA-4EFC-A6E6-2EB27C22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A58E29-9BD0-4C7E-990E-29A2B726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AD760-4562-45B4-834C-17B46EB4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937545-BB2C-416A-A8C6-6FB08616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0344-1DEE-4D85-A292-2F9F9E70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B0BDC-01BB-49D8-9161-F8B10EB8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D0F4B-FBA9-48D4-80D9-28B7AE59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F2213-1D90-4CD5-B5AA-F388BD98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923BF1-CF1F-4405-B455-2DC7D282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3A5A1-B124-4FAB-8189-0DEA83E1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4CC073-918F-48D0-AD01-3B1CA6C2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B58ED-4E0E-49BE-823A-C95EB69F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A89F3F-9CCD-45A8-B7A2-D1CE839D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128555-D8E7-4DC4-9212-12AE98A2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36A1A-A053-4341-AD52-CF7B5574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E12B-E6E8-48C9-B726-75598AEC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902B88-CC24-4169-9FDA-4B65C6E6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79621-7062-4D79-94FE-90D25BD1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93F5A-472D-4F15-8DE4-89D507F1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B2B273-D2C6-4751-BD0D-E3F12F6F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2DD82C-77AB-4025-823C-33DA3150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39D4BD-377B-4861-8E12-941A0A23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FD1CE0-D35F-4F9A-A41B-A79B2389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B10B39-AA67-4574-ACF0-4AA04884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DE15B2-F9C2-46AE-BBCC-8617E1D6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ED900A-D172-4F82-8686-23D56AC9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9819-E7BF-46F7-8E68-FB0C82F6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38D624-E194-4227-A139-510AAD2E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64CB8D-5327-4555-9949-73D718AB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E2C99B-3379-4FE8-95C0-093D21A9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ED4D40-1E75-44D8-9CD5-3E68C402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FBCF85-DE57-4B3A-BD04-11BB96EC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2FB085-2B1D-4C96-9D45-2B2AAB18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58C6C0-45A8-4585-8E6E-D2BD24FE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822832-091E-4295-AAFC-7C1FA9EA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96699D-6328-4694-9A36-EA25417D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F436A4-7CF6-4323-872F-BDE04455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998A-6EE2-4638-9878-D3E7531E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E7744F-3C4D-4A33-9129-618F1817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C985DB-085E-4C65-B3A4-B5BCE9AC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52A6D6-33FB-4E30-9146-508BA871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A189A7-6ECB-4479-BC4A-9A2FC553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4B9AF1-59C4-4AB4-AB44-D5B647B2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0C8422-1F12-4498-A2C2-BAF79DDD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DF3144-2194-43F3-B1E3-D21C2FDC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15299B-CC79-48AD-94C9-95616684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D21736-E2E3-438D-B6F9-952CC1B9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2017EF-8D12-4717-B481-0ADB3AC1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714D-A89A-4DF4-80A2-6C736E70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E868DB-51C7-4D27-B14C-49B2D2E1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23B927-BAD8-40A0-B13D-55A483B6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86C6B8-687C-46A0-A08D-F1F87D97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2077E7-D709-4E09-B011-E643238E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FDB71D-521D-4171-8D5C-1124503A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15FD4E-33A2-44D0-B615-48D44B32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71C9B4-A517-4CF0-944B-109EE3D7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FCFDF8-8018-4C0D-8B70-BD6BBF0C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233B2F-5C04-41B7-A221-E3185262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F2903D-A864-4A0B-8266-6B189A25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E39B-A271-4001-AAF7-E4FCC41B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4E8A-5476-4045-8685-CB8F5E57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21BE79-1241-4506-82FD-A0E06CEA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88B341-F442-4975-AEA1-D89144FC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F7F38B-E5C2-4EA4-8205-A19FD7A0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BF8CDF-5664-4914-981D-C4EC84DC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728AD2-3296-44ED-911C-142FE83C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BC96AE-86FF-4F03-8E1A-F446B47E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CE1035-FF8D-4093-8919-BDC93941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A3203B-3266-4FA3-9079-4DD0677B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2B8861-E16B-4DB1-9A07-C99263BE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B861E8-0831-4F8B-B918-9F2F22E1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7626-9EA0-4059-BCE5-53EC6B75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8C946E-CBD8-43CF-AD4D-C9F8C3D2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182EC8-8688-4C1D-9078-EA939184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00DEC3-0B61-4A14-AFC0-72108758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F53FEB-9E69-4C32-AF44-119E9042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AC681C-40DB-4F6F-B276-A3BAE0AD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1702E0-B307-4A69-A6F3-5A6543DB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B541F4-7789-4FDA-9785-942985ED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612532-2ECB-46F1-9C97-F7E28528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980EC8-8795-4725-A933-6F4422B1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24F208-2E50-40C0-A444-78AABED0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10CD-772C-4CAF-8525-3C9F8222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70DCD8-72C7-42AF-91B3-E2D8B0B5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15B9D2-B871-4D9E-B888-C55250CB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FB8481-7755-4C6D-BEFD-FFEFE472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AD51EE-A60D-42E8-801B-28668C7F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CDAB97-510A-4EC2-AD9F-C5C17BBA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3574C8-D70E-47C7-A4FD-3CCD56A5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99E989-A1E4-4A6D-BFAB-340E8CD9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74C682-5D51-45D1-AEE3-E7CAE812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4FD6FE-36E5-4FC4-B957-3F9EDA78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3284FD-D914-4C4D-AA2F-2CF83488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439F-69F0-447C-B10F-33A3ED23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296756-5349-453A-BD7E-C4581A6F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90056C-C42D-4561-B9B5-0CD07AC6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22132D-F590-47A0-AAA5-1E22B111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965553-C549-48BB-BEC2-25576C7D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04D7B6-06BB-4456-A217-28578B82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550648-FDBA-440F-896F-926C5722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585E45-3B51-4F7B-B5A7-C9FE7DFF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9EF652-A09D-4FD3-A597-D607CE62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837DBE-4290-4E2E-B291-3CC97BCC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451171-BF4B-436D-A0BA-83E804FE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D468-8FFD-4794-9DA1-D93DAD8B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11CA27-0F32-4DDA-BABC-2BFDCCB9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E905CF-C1AC-42F7-8FEF-4975C9B2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3C7C46-050C-48C2-8C97-37F1D85A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35CE1A-18DB-429B-AD25-F639F27A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27B3DD-AEA8-4F40-8FDC-1EF20797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78B584-5CEE-4446-A081-959B5F68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2F41BA-67E7-450D-9461-EFD3A466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8C8E5D-0948-4B92-9925-4FAB9BFE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FDA3B2-F54E-4830-BA49-817A8B8B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7ABEA7-115D-4EB2-87FF-022F3D93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0CCDB-BFE1-4707-9706-71BABAD6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BE1F9F-61E7-4D36-966C-8811528A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DF8266-6AF4-443F-93BD-B170AB20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085D73-D334-4D12-9E68-EFC94D91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A6019F-7530-4ECE-B15D-D2BCEBA7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4ED688-0195-4529-8790-D15C87A8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AC24CB-6B30-4026-8CB8-74F73A27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EDE73F-50A8-4D4B-9571-212EA168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88D097-89A3-4CA0-A7D9-4E5526BF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DC29D4-738D-40BC-B6ED-F24BD4A0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5E925C-4083-4493-B84D-26C61B77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3FF7F-B4B8-48DC-A421-0E993AC5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C08018-E629-44FE-BFD9-AB2FCC4E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325331-77E8-4A46-A79F-0FC00842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C58252-7086-4D10-A31F-22DE3825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FBEC5F-C1D6-42FF-B5F5-6E0A6674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697C06-683C-42C8-9478-E6B1EC59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C43EA5-558A-4B15-95A1-3CEFBBA7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6B616A-3D12-40D5-8F3A-02624A19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54615E-D1BE-42F7-83B5-CEFE7090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C955EC-247E-4880-83F2-A24284DA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453755-803F-40A4-BAA6-33419D1E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98711-6233-4AD3-9953-C0E54F91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C08567-9FDB-42C6-AF54-6AEAC0ED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607EEB-688E-421D-8C31-1F6A5F17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0410C0-4215-4261-A326-0F7E6F2B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24A089-6C8A-4984-BE14-2A6464F0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ABD0A7-11CB-48D7-90AA-6561084B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3BB069-A5E0-4589-A8CC-707D7F07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62DD04-36EF-423C-A17E-B9ADFE11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71FFD-9AE4-4F89-8683-D9287EED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1B415-6154-4561-993F-A7527384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17A-2917-4E9F-8F70-DFA710CB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18BFB-701B-42CC-A153-B855AF7E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F3512-FE49-456D-A6B2-9CE44400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75EA5-AFAA-4C0F-8571-572FA83E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97126-7D5B-4450-8ECF-BB8434F5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D9D0E-C272-40DB-A8C2-0FFC1C5E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6549C-7A3D-4E92-9F6E-3AAEBBE0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F4785-978A-4845-9E4B-2A400773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61504-33E9-473B-925A-BD255A57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D185B-5BB3-4201-8DF6-28072E86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B1D08-CA0C-4977-8A76-2DCC4195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5DA8-8DE8-4241-8BDA-1BA5D771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682AC-A666-4BB0-A7F9-C1424C11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D8D55-DBD0-4107-923B-9CC3FC19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F6241-D960-430E-802E-43D4855D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1F9D6-7FBE-4D2D-8589-0F215CA7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48ED2-49C9-4B6A-B5B5-B7D71139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FA4FC-4FEC-47D1-B231-552E94BC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3644F-CD05-4203-B8C3-3A9C38C1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418EA-60EA-4525-A156-2E0D4900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35430-8C4B-4DCE-BE0D-7C10E4C6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00442-57FF-41E5-ABB9-A3845F79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D68-D461-4EB6-876F-4E4BCF00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A0192-3568-4E38-80F2-8F7846A5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E3CB9-C21D-4C4B-B240-BC7303DA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15DE0-EBA9-44AF-83CC-14FD7CEE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5C8D9-17E2-4538-AA0F-61A65A13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6EC28-DD8A-48FC-A31E-3EE5D0FD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C64D6-31EF-46DB-84F8-DA6D3773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C8567-3C8D-4F34-8D15-8F918CFD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F7E3D-E213-4F20-A985-A4FE47F4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B41E4-FE81-4620-B660-0E9C6031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D80AE-368D-4BCC-AFD0-EC7E80DC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E02-C536-46A1-A568-8F8F7E9A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16A31-CF19-4F92-8AD9-452F0558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4A5F7-6D97-49A3-9D3E-FDEE8016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6B661-5D82-41FD-97F7-71CB58BE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78D9C-BFF1-4A47-BE0E-56456AA4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90FFD-EC83-453B-A891-A7350017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D9DA6-6817-41E7-8FE3-05CB6470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805F2-A702-4A03-BD29-450D137E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1DAE3-36F1-42B8-9E33-B5D7BD9B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BE80F-B0FF-4F75-85A9-3FBA2336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05839-D8D0-46D8-A8E2-0B30926F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761C-E9B7-4D6F-8241-EAAAD598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82FA7-7470-40F9-84C0-5D671A1A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F2897-984E-43E0-B5EE-AE9D690C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A2C86-CF9B-4A18-A5BD-322130AD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88035-BEE4-4010-9F43-20927A0A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A4B72-7821-4E90-B443-E89E905C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61A02-FC87-4FA0-BB3C-94FF626B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858D6-E916-4641-AEA2-DBE0AD4F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4EFBE-CDE1-4179-95C6-BE718DA6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F53AE-C1EB-43FB-BD49-3A1C4B7C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AEE29-BFCC-49AD-9A62-440B5C21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211A-24AE-42A7-9145-2060C360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84DD8-077F-4F9D-B9C4-60128465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4C28A-5BBD-471B-8B44-6B798FAC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52451-5616-4F9E-A4D2-0E28A937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DA2DA-99D9-4803-BF91-7927CC05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1154D-1D8B-4511-A853-6ADC9A66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AC05C-7D20-44E9-97B5-8D4A2BC2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78EF5-4885-44DE-A346-9B746828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2EDF0-8D3E-4996-908A-DC10F8A7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625BF-E316-4F52-8FA5-5506FB07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82557-9597-419F-A104-1AD854BD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EAC7-1507-462B-9BE8-72AB5F3A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00A9D-3629-4F2F-958F-A6E56884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D891D-70B8-4BCD-A114-70AB91F7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73FCA-E487-4F89-9826-B65509D6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540BC-2FAE-42A0-8EE5-27CCDC85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F102D-4973-478A-9B3D-05A57E49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E73C4-1482-4992-B5CA-FF430BD3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A7B7D-F0B4-4690-B7A5-707E3824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D2DCC-376A-4588-BA06-10FAE32C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B2057-BFBD-42E4-BD04-88506F06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7B289-177B-497D-AE77-CBD04426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B536-A3E7-41AF-9A9C-6433659DDC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CC4D-334A-49D8-8CE8-7825E56CD9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B8B4-EACA-4A3E-8C2F-1AD9B074DD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6ADE-94A5-4D2B-96EE-DA59BCEF03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7FBF-7BA6-4643-B934-B99861A576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AB75-88E4-43B0-BEC6-41C40B014E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D17B-79D5-4CF7-8979-464C23E5D9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E8A7-8CC7-4EB9-AEC8-656F0BDAE9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12D2-1FBC-4016-9833-A69D3C4CAB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316E-37D4-4B66-B5F3-B4ABFC48C0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282E-372C-4C16-8D37-3F137E156B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9168-13F3-49C4-BB01-C2D16D9175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0B09-08D4-484B-B2F4-16274718C8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A83C-75EE-4E8E-9981-9B44CF8DC3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D93B-CCBC-4BCA-A5ED-444DFB21C0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24B4-CD73-4809-970A-ADB80E9D9E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6BBD-D363-441E-9AB2-17580B4B09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A4E9-9C53-410C-8219-B34D4D62B6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2744-6CFA-46B6-BDF0-FBB92C4F3A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D09E-261A-494B-9692-9B2D02410C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A506-005F-4630-82D4-67C9CBAF2E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227D-9080-4A70-8BD7-C2C52DE7AC4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03B7-B6FA-4E09-8A6F-31E251AD44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DF2B-07A7-42C2-9480-CD96F0FC06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14C6-3FC6-4173-BA49-0754A4DFAA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81DB-6187-4976-BCAC-DF92324BC5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4650-85C0-452B-B06B-73AA003754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DE8A-BFEC-4FFB-AEBA-7CB917B447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AE0A-3F90-4214-B684-554B7A7E62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8D71-9C51-4B62-8C95-A79558050D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85AE-B049-4FCE-BF5D-8D033388C6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6422-A0E9-45F0-B110-805FB3DB1F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F2B7-D40A-47C7-8BA9-AB06802852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6519-2292-4148-A71A-E5FC08FB18D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E24A-044B-4BB2-AC8C-A51273F7E7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40F9-B542-4B60-9BF4-6D1EEA2AEE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F3F5-5856-4D93-9205-0B60D0A769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B49E-C2B1-4435-B7BD-F2F379B654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CCFD-FB69-4A34-A3D7-C95342CA89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79F8-686C-4CEA-8A29-F531E0DBAF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CFA1-7C9D-48EC-A76B-B83756940B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5738-F57A-42BF-B9AF-A7099FE396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38160" y="2967120"/>
            <a:ext cx="906768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595440" y="909720"/>
            <a:ext cx="7953120" cy="218124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2" descr=""/>
          <p:cNvPicPr/>
          <p:nvPr/>
        </p:nvPicPr>
        <p:blipFill>
          <a:blip r:embed="rId2"/>
          <a:stretch/>
        </p:blipFill>
        <p:spPr>
          <a:xfrm>
            <a:off x="184320" y="3276720"/>
            <a:ext cx="8775360" cy="20415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4154400" y="1484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4614840" y="2133720"/>
            <a:ext cx="67788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7451640" y="1469880"/>
            <a:ext cx="86544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7351560" y="2133720"/>
            <a:ext cx="86544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7"/>
          <a:stretch/>
        </p:blipFill>
        <p:spPr>
          <a:xfrm>
            <a:off x="1979640" y="3789360"/>
            <a:ext cx="57636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8"/>
          <a:stretch/>
        </p:blipFill>
        <p:spPr>
          <a:xfrm>
            <a:off x="1692360" y="4437000"/>
            <a:ext cx="57600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9"/>
          <a:stretch/>
        </p:blipFill>
        <p:spPr>
          <a:xfrm>
            <a:off x="4716360" y="378936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10"/>
          <a:stretch/>
        </p:blipFill>
        <p:spPr>
          <a:xfrm>
            <a:off x="4500720" y="4422600"/>
            <a:ext cx="57600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1"/>
          <a:stretch/>
        </p:blipFill>
        <p:spPr>
          <a:xfrm>
            <a:off x="7740720" y="378936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12"/>
          <a:stretch/>
        </p:blipFill>
        <p:spPr>
          <a:xfrm>
            <a:off x="7494480" y="4365720"/>
            <a:ext cx="57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95120" y="123840"/>
            <a:ext cx="8753760" cy="66103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7308720" y="28814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7451640" y="4581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7308720" y="623736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1" descr=""/>
          <p:cNvPicPr/>
          <p:nvPr/>
        </p:nvPicPr>
        <p:blipFill>
          <a:blip r:embed="rId1"/>
          <a:stretch/>
        </p:blipFill>
        <p:spPr>
          <a:xfrm>
            <a:off x="243000" y="1352520"/>
            <a:ext cx="8658000" cy="4152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900000" y="413388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3"/>
          <a:stretch/>
        </p:blipFill>
        <p:spPr>
          <a:xfrm>
            <a:off x="971640" y="4897440"/>
            <a:ext cx="756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276120" y="1809720"/>
            <a:ext cx="8591760" cy="32385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900000" y="3789360"/>
            <a:ext cx="568800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3"/>
          <a:stretch/>
        </p:blipFill>
        <p:spPr>
          <a:xfrm>
            <a:off x="1042920" y="4581360"/>
            <a:ext cx="568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219240" y="1523880"/>
            <a:ext cx="8705520" cy="38102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971640" y="348624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900000" y="4336920"/>
            <a:ext cx="576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185760" y="1495440"/>
            <a:ext cx="8772480" cy="38671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900000" y="3860640"/>
            <a:ext cx="410364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971640" y="4508640"/>
            <a:ext cx="4103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204840" y="281160"/>
            <a:ext cx="8734320" cy="62956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50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826920" y="5373720"/>
            <a:ext cx="504036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611280" y="6093000"/>
            <a:ext cx="5040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219240" y="1166760"/>
            <a:ext cx="8705520" cy="4524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971640" y="3544920"/>
            <a:ext cx="511308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971640" y="4221000"/>
            <a:ext cx="51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4"/>
          <a:stretch/>
        </p:blipFill>
        <p:spPr>
          <a:xfrm>
            <a:off x="1042920" y="4883040"/>
            <a:ext cx="5113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190440" y="833400"/>
            <a:ext cx="8763120" cy="51912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900000" y="314172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900000" y="3817800"/>
            <a:ext cx="525636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826920" y="450864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826920" y="5172120"/>
            <a:ext cx="741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5:5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